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693E-8C70-4C51-B328-04FDBE7B46E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BC5B-5FF1-4951-BC5B-4F1DE653C046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2990-01E3-4525-AE4B-9F2C4135A7FD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DF7-F76C-42B0-9496-832463EA35BA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7FDE-A3A6-45B9-8BEB-4A8CFC7299EA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AC03-CC20-4BF7-9D11-6012EBD9DE75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1BF7-310F-4A56-BEE5-49AE76DB96E1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A77F-8445-40E4-A16E-EF59115CFBC9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2891-A78D-49BA-AC4D-1C4D6FA0B314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88BE-767D-4055-9F14-202F6E76DE3F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3D0F-3413-4231-831D-792E2F85A059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D324-13DD-4990-883B-F9E95910E2F6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32C-7096-4157-9493-B5ED06F4FDA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9DF8-A319-43E5-8CB5-A8326F14BA2C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3750-3049-48CA-B1FC-93F7D595C82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D4C4-DCF6-4B55-9172-176FD3C84961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3B68-B067-4BA3-85D6-5DE080599BF0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BF61-355C-49A1-8434-908FFBDE592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3933-B503-4831-AE1F-261790F6F80B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DFB6-F4EF-422A-AFFA-0FBCEBB4E2D4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4D85-3C92-4BE4-8C90-A6CCFAD400C4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4264-A633-4CEF-86B8-6CD3269BF7EE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ABDB-2285-4BC3-B9A4-CD9CE5D8E604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C512-D4DB-479E-8267-34D1DF77BC58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37B4-646B-4A81-9346-3E41EB33BF92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9C6F-7033-4E81-8190-67C3FF35966D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BAA7-2A82-4F53-9A3C-AE1E5E7C4830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36A-B7FA-4E41-930B-3D1936985D55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78EB-11A2-4556-A2C0-051333B05C5A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E7C-56E9-47FF-94F8-3E9344E18D5B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3D3A-7EB8-47EB-9E0A-3A1A7F28567F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91A-5512-4868-9F17-E44855B7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827-FB40-448B-B64C-D79EE157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9B9F3-B6D4-4C89-A45A-A47DFEB9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D8253-4E54-4067-AC86-178E456D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FD6E6-778D-4B38-AFF2-40EBC7CF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27F31-1D67-4097-A2AF-4474026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B734B-514B-43D6-98EA-8108C07E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C5353-4D5C-4DB5-A7D9-F609FC0F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9DCA0-1536-4FFA-918A-10DFEEA9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229E7-2DC6-4B98-83A2-119D0096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F74DD-FC23-42B5-BD51-894E281D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C9F-24F5-4D92-8CA0-2465199F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E84-78B7-4FF1-A660-4407EA35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1838-174F-4846-9D9D-ACACF0DE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F5F3-7015-4242-BE64-B4ABC718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ACE9-1654-447B-AD10-3174AC12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3894-4D85-4771-A9E3-96615DD3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F23C-42C4-4CB6-961D-9DDA4528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425E-4DA3-4542-BAB0-205BE12B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EDAC-C99F-4944-9A9E-E435D6F8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CBB-878A-4501-8E1D-5FC3DDA0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D085-1A32-4BC2-B111-B6DF1E75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ACB2-2359-41B7-B8BA-651A117D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22C3-8BB6-49D3-891E-1DA0A758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85F8-3666-44DE-8A32-C8A51D06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331A-60E6-4D66-AFB5-7E4B6258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7576-ED00-4C93-BDE2-8FBB8566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9DEA5-A8C9-4B13-BA58-CF2E5B3E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53F2-BF96-4974-B404-397DF88D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41042-589F-40C4-9AE8-3D9B7728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58B0-7249-45F1-A0C5-014591B5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85F-50CC-4803-96D6-A8111053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A4BB-DE54-409D-B024-1B3474FD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B43D-3EF1-443C-A6D9-AEADC93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572F-3382-48D7-8CB0-3F6F977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BD75-2722-422A-81A6-165C6344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4048-4F5F-491B-9794-258CE8A5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712C-E7AF-4FB2-B59C-E8DDAF46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18E0-5AD9-4E31-AF04-C02396C2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8BBD3-91E7-47CF-BF69-80D955D8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DD47-5096-4FB6-88C0-E9D2ACBE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DCB5-0446-4DEC-BCBC-A2F0DFA0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CBB-6836-470B-8D51-E6AA24BC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9BFD-042F-4765-B13F-EDAC9346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6550E-E3DF-4044-B175-D223B758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C7B0-2AD1-452A-BD2C-8BD531FA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30E0-AC85-4347-AA53-75C479C3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9E3F3-55F1-4671-884C-42D8E20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63537-E2D1-438D-B8F0-FAD5DB05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DB844-A4CC-42BA-A1C2-7FEBF3E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8EB5-30B4-47C2-A22B-D57EAAEA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1085-C391-4787-8C4D-C00F0131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A9A86-10F7-49F3-A3FE-055DF491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616-E6AE-4781-A5C1-5E3FE309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610C-58D0-489B-B511-AD10C008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42EBA-2015-4C14-910B-F27A8885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9C657-C813-4247-8DA1-21E1900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5F881-4650-4973-A12D-895ED478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D6134-F37A-4773-93FC-CB95AF5C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1451E-565F-4F4E-9E83-998DFF24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48D2-B3C9-4890-B8C4-FAE54886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4B60F-2E08-4B34-8D61-AB94D788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92A4E-0B10-4EEB-A17B-61CB68B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35047-9DB7-4276-AC61-3B28D6A3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009-3D78-4A0D-8F14-73FFF67C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88F64-B31A-49E7-8888-A2AE81A9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1BFE5-FACC-47EE-A7ED-F4039685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DC804-E189-40F9-9065-2A316F3D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3EB4F-9EA9-4955-8FCB-E3273A95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3EEE-25E1-4523-9243-6AC1E3C8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7824-A453-4870-91F3-B3CECAE3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24F0A-BAAB-49C4-9D92-97DE5E05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282A8-49CF-4CDB-AC5C-F9B3680F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65A99-9719-4A0E-8348-58FF8B1A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5EBD-0211-4D9E-8A8A-528DE52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4F0-3D86-4876-9E44-D01AECF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1D8F3-973C-4647-892C-D3E7567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AC2C-4A44-4AA0-923B-14995A88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AFF43-7C3E-4A84-8C5A-E0D4E59B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73D9A-F0F3-412B-89A6-BB25E582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5469-840E-48C8-9B36-D6CC012D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4E36-BF3D-4A85-A78B-317DB616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F5994-D1A6-4CBD-8199-5C1129E0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FBD8C-8D4A-4417-9611-E98CB779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BC55D-48C4-4298-ADD4-08949B2B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6C43A-A5FF-4B93-BF67-F3BDB8AA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39D-8E83-424C-8425-40CBD347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37C23-7622-4602-A85A-0C327D08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72912-B017-43E9-B2A2-1437A5E1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72134-C983-4CC0-9081-E5A5234C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7A5C-D88B-48BB-9564-20B1901D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BE779-E6D5-4A1D-9F88-9849F983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6608E-AAD1-4BB4-941D-C19BF944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B3C92-AFD4-4F5B-BD79-2C68381D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542CF-44E7-4574-9718-167E35CB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0CD59-A4FD-4FDE-B622-D4B1942F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DBDDC-A354-4795-8F8A-EF208A0C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ACD-6D3D-4D7E-8B62-D1402AE5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9038-BDD1-4CBE-A079-55B85FE3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328CD-FD2D-47AC-ADCB-9C338C3B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E917A-C707-4735-862B-96B9B131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42A2E-F01E-44C6-B323-6A072E8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2A71B-5A35-4E91-A175-BDB18673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81442-8E5C-4D5E-A2B7-71D71911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5D136-FFCF-401C-8BC1-8B9CDDCC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59C56-4B35-4453-9460-3F3BF1DF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93CD3-18B8-4F6C-B696-6A537B2F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AC648-71F3-41C1-9B5F-DF6022C9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99b7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cb08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1F2A-9D13-4738-8BF1-075B956DE732}" type="slidenum"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2"/>
          <a:stretch/>
        </p:blipFill>
        <p:spPr>
          <a:xfrm>
            <a:off x="85680" y="85680"/>
            <a:ext cx="8893080" cy="207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99b7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cb08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CF35-4A38-4C13-8F46-3F12FFDA0350}" type="slidenum"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c9c2d1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99b7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cb08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9c2d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9c2d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9c2d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6C69-771B-41F3-8C0E-9A3AACDAEB60}" type="slidenum">
              <a:rPr b="0" lang="en-AU" sz="1400" spc="-1" strike="noStrike">
                <a:solidFill>
                  <a:srgbClr val="c9c2d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99b7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cb08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626920" y="6356520"/>
            <a:ext cx="3776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b05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Gill Sans MT"/>
              </a:rPr>
              <a:t>Junior Coaches &amp; Managers Briefing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A870-56A1-49EE-9E04-93B926F78EE8}" type="slidenum"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99b7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cb08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83A1-DBD1-4FA1-9C7B-173D349DA3BA}" type="slidenum"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99b7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cb08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DC98-D161-4664-B571-785D57FA051C}" type="slidenum"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99b7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cb08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6388-9FDF-42CD-A49A-BA1E3C40FE4B}" type="slidenum"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c9c2d1"/>
              </a:solidFill>
              <a:latin typeface="Bookman Old Sty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99b7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cb08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9c2d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9c2d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9c2d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6ACB-95A8-4E0A-8CB1-F7B148E6082B}" type="slidenum">
              <a:rPr b="0" lang="en-AU" sz="1400" spc="-1" strike="noStrike">
                <a:solidFill>
                  <a:srgbClr val="c9c2d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cb08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99b7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cb08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69676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9A23-605C-4813-B56E-2DEBFF8AEF07}" type="slidenum">
              <a:rPr b="0" lang="en-AU" sz="1400" spc="-1" strike="noStrike">
                <a:solidFill>
                  <a:srgbClr val="69676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tivesfootball.com.au/" TargetMode="External"/><Relationship Id="rId2" Type="http://schemas.openxmlformats.org/officeDocument/2006/relationships/hyperlink" Target="http://www.kmc.nsw.gov.au/" TargetMode="External"/><Relationship Id="rId3" Type="http://schemas.openxmlformats.org/officeDocument/2006/relationships/hyperlink" Target="http://www.minroos.com.au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anagers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2018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Bookman Old Style"/>
              </a:rPr>
              <a:t>Mixed &amp; Girls Juniors (U6 – U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6" name="Picture 3" descr="Mini ROOS Button V2 copy.jpg"/>
          <p:cNvPicPr/>
          <p:nvPr/>
        </p:nvPicPr>
        <p:blipFill>
          <a:blip r:embed="rId1"/>
          <a:stretch/>
        </p:blipFill>
        <p:spPr>
          <a:xfrm>
            <a:off x="8072280" y="578628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98080" y="3636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ode of Conduc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723680"/>
            <a:ext cx="822960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Gill Sans MT"/>
              </a:rPr>
              <a:t>Coach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Aside from injury, each junior player should be on the field for at least half the game time. All players deserve equal playing and training time, regardless of their ability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Be reasonable in your demands on players' time, energy and enthusiasm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Any physical contact with a young player should be appropriate to the situation and necessary for their development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Ensure that the time players spend with you is a positive experience. All young players are deserving of equal attention and opportunities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Ensure that equipment and facilities meet safety standards and are appropriate to the age, maturity and ability of all players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Show concern and caution toward sick and injured players. Follow the advice of a physician when determining whether an injured player is ready to recommence training or competition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</p:txBody>
      </p:sp>
      <p:sp>
        <p:nvSpPr>
          <p:cNvPr id="460" name="TextBox 6"/>
          <p:cNvSpPr/>
          <p:nvPr/>
        </p:nvSpPr>
        <p:spPr>
          <a:xfrm rot="20543400">
            <a:off x="1570680" y="1999080"/>
            <a:ext cx="5036040" cy="3050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Po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are shouting you are not doing it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ents should all be supportive, not deri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Referees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er achievement, no matter how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7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9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ode of Conduc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979640" y="1412640"/>
            <a:ext cx="4835520" cy="4877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You a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AMBASSAD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t Ives F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our actions reflect on the Club’s repu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ids &amp; Other Parents look towards your exampl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6" name="Picture 11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pic>
        <p:nvPicPr>
          <p:cNvPr id="470" name="Content Placeholder 7" descr=""/>
          <p:cNvPicPr/>
          <p:nvPr/>
        </p:nvPicPr>
        <p:blipFill>
          <a:blip r:embed="rId1"/>
          <a:stretch/>
        </p:blipFill>
        <p:spPr>
          <a:xfrm>
            <a:off x="457200" y="1212840"/>
            <a:ext cx="8229600" cy="49687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9" descr="Football 2.jpg"/>
          <p:cNvPicPr/>
          <p:nvPr/>
        </p:nvPicPr>
        <p:blipFill>
          <a:blip r:embed="rId2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SIFC Logo V12.2 (pantone336).jpg"/>
          <p:cNvPicPr/>
          <p:nvPr/>
        </p:nvPicPr>
        <p:blipFill>
          <a:blip r:embed="rId3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Mini ROOS Button V2 copy.jpg"/>
          <p:cNvPicPr/>
          <p:nvPr/>
        </p:nvPicPr>
        <p:blipFill>
          <a:blip r:embed="rId4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oaching Philosophy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cb084"/>
                </a:solidFill>
                <a:latin typeface="Gill Sans MT"/>
              </a:rPr>
              <a:t>MiniRoos Football ‐ it's all about participation, skill development and fu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2044440"/>
            <a:ext cx="76150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Coaches should encourage players to pass and dribble rather than kick up‐field or shoot for goal from anywher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courage spacing and passing, using all the fiel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roduce triangle formulations to show options avail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courage confidence with the ball through one on ones and ball reten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courage running off the ball to support team member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lways be positive and remark on good actions, not bad ac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sure all children have fair opportunity at training and match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Coaches must not enter the field of play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It is not permitted to have a player permanently stationed immediately in front of the goalmouth as an attacker or defender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7" name="Picture 12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oaching Philosophy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cb084"/>
                </a:solidFill>
                <a:latin typeface="Gill Sans MT"/>
              </a:rPr>
              <a:t>MiniRoos Football ‐ it's all about participation, skill development and fu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6840" y="2044440"/>
            <a:ext cx="76150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Coaches should encourage players to pass and dribble rather than kick up‐field or shoot for goal from anywher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courage spacing and passing, using all the fiel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roduce triangle formulations to show options avail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courage confidence with the ball through one on ones and ball reten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courage running off the ball to support team member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lways be positive and remark on good actions, not bad ac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sure all children have fair opportunity at training and match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Coaches must not enter the field of play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Parents must not stand behind the goal lin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It is not permitted to have a player permanently stationed immediately in front of the goalmouth as an attacker or defender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3" name="Picture 12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486" name="TextBox 7"/>
          <p:cNvSpPr/>
          <p:nvPr/>
        </p:nvSpPr>
        <p:spPr>
          <a:xfrm rot="20543400">
            <a:off x="2005920" y="2256120"/>
            <a:ext cx="4165920" cy="3111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"/>
                <a:ea typeface="Arial"/>
              </a:rPr>
              <a:t>!!! FUN 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iling Faces at end of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ardless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us on Participation an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e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oaching courses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2400" spc="-1" strike="noStrike">
              <a:solidFill>
                <a:srgbClr val="9cb084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2400" spc="-1" strike="noStrike">
              <a:solidFill>
                <a:srgbClr val="9cb084"/>
              </a:solidFill>
              <a:latin typeface="Gill Sans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2133720"/>
            <a:ext cx="40384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assroots (U6 – U8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nior (U8 – U11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al Keeper Trai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48320" y="2133720"/>
            <a:ext cx="403848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Club’s or NSFA website for schedule of other cour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ub will cover costs on proof of attend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2" name="Picture 9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1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2" descr="Grassroots course 2014 button V4.jpg"/>
          <p:cNvPicPr/>
          <p:nvPr/>
        </p:nvPicPr>
        <p:blipFill>
          <a:blip r:embed="rId4"/>
          <a:stretch/>
        </p:blipFill>
        <p:spPr>
          <a:xfrm>
            <a:off x="1571760" y="4214880"/>
            <a:ext cx="36432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pic>
        <p:nvPicPr>
          <p:cNvPr id="497" name="Content Placeholder 7" descr=""/>
          <p:cNvPicPr/>
          <p:nvPr/>
        </p:nvPicPr>
        <p:blipFill>
          <a:blip r:embed="rId1"/>
          <a:stretch/>
        </p:blipFill>
        <p:spPr>
          <a:xfrm>
            <a:off x="457200" y="1212840"/>
            <a:ext cx="8229600" cy="4968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Football 2.jpg"/>
          <p:cNvPicPr/>
          <p:nvPr/>
        </p:nvPicPr>
        <p:blipFill>
          <a:blip r:embed="rId2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" descr="SIFC Logo V12.2 (pantone336).jpg"/>
          <p:cNvPicPr/>
          <p:nvPr/>
        </p:nvPicPr>
        <p:blipFill>
          <a:blip r:embed="rId3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Mini ROOS Button V2 copy.jpg"/>
          <p:cNvPicPr/>
          <p:nvPr/>
        </p:nvPicPr>
        <p:blipFill>
          <a:blip r:embed="rId4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pic>
        <p:nvPicPr>
          <p:cNvPr id="502" name="Content Placeholder 7" descr=""/>
          <p:cNvPicPr/>
          <p:nvPr/>
        </p:nvPicPr>
        <p:blipFill>
          <a:blip r:embed="rId1"/>
          <a:stretch/>
        </p:blipFill>
        <p:spPr>
          <a:xfrm>
            <a:off x="457200" y="1212840"/>
            <a:ext cx="8229600" cy="4968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Football 2.jpg"/>
          <p:cNvPicPr/>
          <p:nvPr/>
        </p:nvPicPr>
        <p:blipFill>
          <a:blip r:embed="rId2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SIFC Logo V12.2 (pantone336).jpg"/>
          <p:cNvPicPr/>
          <p:nvPr/>
        </p:nvPicPr>
        <p:blipFill>
          <a:blip r:embed="rId3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9" descr="Mini ROOS Button V2 copy.jpg"/>
          <p:cNvPicPr/>
          <p:nvPr/>
        </p:nvPicPr>
        <p:blipFill>
          <a:blip r:embed="rId4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Match Day Managemen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21932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xtu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Click the link on our website –Matchday tab</a:t>
            </a:r>
            <a:br>
              <a:rPr sz="2300"/>
            </a:b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Draw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ually first 3 to 5 weeks draw, then results reviewed and subsequent 5 weeks draw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tween draw shuffles please be patient, may be some late noti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t Weather (applicable for Training as wel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Weekend games decided by Council at 3pm Friday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Found of our website, council  and NSFA websites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Focused on preserving grounds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Training availability also governed by council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</p:txBody>
      </p:sp>
      <p:pic>
        <p:nvPicPr>
          <p:cNvPr id="508" name="Picture 6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Match Day Managemen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21896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iniRoos Cent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Bales Park,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	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Sydney Street, Northbridge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Blackman Oval 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	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off Wood Street, Lane Cove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Foxglove Oval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	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Foxglove Road, Mt Colah, Hornsby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Karuah Oval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	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Karuah Street, Turramurra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Regimental Oval 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	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Cnr, Lorne Ave &amp; Pacific Highway, Killara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Toolang Oval 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	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Cnr Warrimoo Ave &amp; Toolang St, St Ives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Tunks Oval 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	</a:t>
            </a: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Lower Cliff Avenue, North Sydney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pproximate Start tim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U6 – 8:30 to 10:00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U7 – 10:00 to 11:30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U8 &amp; U9 – 10:00 to 12:20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U10 &amp; U11 – 8:30 to 12:00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</p:txBody>
      </p:sp>
      <p:pic>
        <p:nvPicPr>
          <p:cNvPr id="512" name="Picture 6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1561320" y="1557360"/>
            <a:ext cx="533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Eras Demi ITC"/>
                <a:ea typeface="Arial"/>
              </a:rPr>
              <a:t>THANK YOU 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Eras Demi ITC"/>
                <a:ea typeface="Arial"/>
              </a:rPr>
              <a:t>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Eras Demi ITC"/>
                <a:ea typeface="Arial"/>
              </a:rPr>
              <a:t>VOLUNTEE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Documents and Settings\rdutton_au\Local Settings\Temporary Internet Files\Content.IE5\22AUKUQ4\MC900338454[1].wmf"/>
          <p:cNvPicPr/>
          <p:nvPr/>
        </p:nvPicPr>
        <p:blipFill>
          <a:blip r:embed="rId1"/>
          <a:stretch/>
        </p:blipFill>
        <p:spPr>
          <a:xfrm>
            <a:off x="4143240" y="4214880"/>
            <a:ext cx="1352520" cy="1790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Football 2.jpg"/>
          <p:cNvPicPr/>
          <p:nvPr/>
        </p:nvPicPr>
        <p:blipFill>
          <a:blip r:embed="rId2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SIFC Logo V12.2 (pantone336).jpg"/>
          <p:cNvPicPr/>
          <p:nvPr/>
        </p:nvPicPr>
        <p:blipFill>
          <a:blip r:embed="rId3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Mini ROOS Button V2 copy.jpg"/>
          <p:cNvPicPr/>
          <p:nvPr/>
        </p:nvPicPr>
        <p:blipFill>
          <a:blip r:embed="rId4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Match Day Managemen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teen Du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U6 &amp; U7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You will be rostered on to man the Toolang Canteen for the WHOLE morning   (not just the time you are playing)  8.15am-12.15p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You should have no more than two duties across the seas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 roster will be worked out when the draw is availabl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nagers must ensure that a fair roster of ALL parents is put in pla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erating Procedures for the Toolang Canteen can be found on the Club’s web si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7" name="Picture 6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8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Match Day Managemen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21932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nag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Ensure all players know next fixture time &amp; location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Manage roster half time refreshments and shirt cleaning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Keep a register of availability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Work with Coach to establish teams for the day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Be liaison person with Opposition manager &amp; MiniRoos Ground Controller (when required)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</p:txBody>
      </p:sp>
      <p:pic>
        <p:nvPicPr>
          <p:cNvPr id="522" name="Picture 6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Match Day Managemen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21932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ferees (Game Leaders) Non-Com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These are parent volunteers (or allocated by Manager !)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May instruct both teams on the rules of the game but no coaching – </a:t>
            </a:r>
            <a:r>
              <a:rPr b="1" lang="en-US" sz="2300" spc="-1" strike="noStrike" u="sng">
                <a:solidFill>
                  <a:srgbClr val="69676d"/>
                </a:solidFill>
                <a:uFillTx/>
                <a:latin typeface="Gill Sans MT"/>
              </a:rPr>
              <a:t>rules are in your kit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Please be professional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andering around the pitch with a cup of coffee in you hand is not a good look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eep up with the a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Make your instructions clear and understandable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member they are for the benefit of players AND spectato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7" name="Picture 6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Match Day Managemen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21932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ach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Positive Comments only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Manage substitutions fairly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Do not enter the pitch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Support the Referee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Don’t stand behind the goal areas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</p:txBody>
      </p:sp>
      <p:pic>
        <p:nvPicPr>
          <p:cNvPr id="532" name="Picture 6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Match Day Managemen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20600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Gill Sans MT"/>
              </a:rPr>
              <a:t>Match Cards U6 – U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7960" y="12157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cb084"/>
              </a:solidFill>
              <a:latin typeface="Gill Sans M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205380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nagers responsibil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ter before end of the weeken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o to Team Managers port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ake [Match Results] option and follow the promp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the two competing teams enter different results then an email will be sent to you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r Recorder, Phil Kennedy, is available via email to assist as requir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Picture 9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1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457200" y="1212840"/>
            <a:ext cx="8229600" cy="4968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9" descr="Football 2.jpg"/>
          <p:cNvPicPr/>
          <p:nvPr/>
        </p:nvPicPr>
        <p:blipFill>
          <a:blip r:embed="rId2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SIFC Logo V12.2 (pantone336).jpg"/>
          <p:cNvPicPr/>
          <p:nvPr/>
        </p:nvPicPr>
        <p:blipFill>
          <a:blip r:embed="rId3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Mini ROOS Button V2 copy.jpg"/>
          <p:cNvPicPr/>
          <p:nvPr/>
        </p:nvPicPr>
        <p:blipFill>
          <a:blip r:embed="rId4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The Club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Gill Sans MT"/>
              </a:rPr>
              <a:t>Age Co-Ordina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928680" y="990360"/>
            <a:ext cx="4071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Gill Sans MT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828440"/>
            <a:ext cx="29718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6 – Vac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7 – Vaca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8 – Vaca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9  - Vacant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10 -  Vaca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11- Vanessa Strohkorb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pecial Needs – Rob F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928680" y="1828800"/>
            <a:ext cx="407196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layers &amp; Parents to Manag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nager to Age Co-Ordinat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ge Co-Ordinator to Committe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mittee (Secretary) to NSF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laints can be directed directly at the committee if requir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 send a Newsletter out  most weeks  – usually Thursday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e our website for any additional up to date inform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3" name="Picture 9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1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Key Dates &amp; End of Season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0713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Gill Sans MT"/>
              </a:rPr>
              <a:t>Key Da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0807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Gill Sans MT"/>
              </a:rPr>
              <a:t>End of Seas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91880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ala D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19</a:t>
            </a:r>
            <a:r>
              <a:rPr b="0" lang="en-US" sz="2000" spc="-1" strike="noStrike" baseline="30000">
                <a:solidFill>
                  <a:srgbClr val="69676d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 and 20</a:t>
            </a:r>
            <a:r>
              <a:rPr b="0" lang="en-US" sz="2000" spc="-1" strike="noStrike" baseline="30000">
                <a:solidFill>
                  <a:srgbClr val="69676d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 of  August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Marks the end of the season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Mini competition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(Clubhouse)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429080" y="1919160"/>
            <a:ext cx="35719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ager and/or C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Monday 10</a:t>
            </a:r>
            <a:r>
              <a:rPr b="0" lang="en-US" sz="2000" spc="-1" strike="noStrike" baseline="30000">
                <a:solidFill>
                  <a:srgbClr val="69676d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 September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Responsible to get shirts from players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We do not want dribs and drabs back from individual player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Gill Sans MT"/>
              </a:rPr>
              <a:t>Return all kit in clean condition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</p:txBody>
      </p:sp>
      <p:pic>
        <p:nvPicPr>
          <p:cNvPr id="561" name="Picture 9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0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1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Social Events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8800" y="1620720"/>
            <a:ext cx="3827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b084"/>
                </a:solidFill>
                <a:latin typeface="Gill Sans MT"/>
              </a:rPr>
              <a:t>Trivia Night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un &amp; Fundraiser for the Club !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club’s Big Bash for the year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uctions, raffles, music &amp; dancing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ser :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2773440" y="4581360"/>
            <a:ext cx="403884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Picture 9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sp>
        <p:nvSpPr>
          <p:cNvPr id="568" name="Text Placeholder 2"/>
          <p:cNvSpPr/>
          <p:nvPr/>
        </p:nvSpPr>
        <p:spPr>
          <a:xfrm>
            <a:off x="608040" y="3586320"/>
            <a:ext cx="3825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b084"/>
                </a:solidFill>
                <a:latin typeface="Gill Sans MT"/>
              </a:rPr>
              <a:t>World Cup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otball &amp; Rugby Events on 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uper-large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icket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rog and Food to be arr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me &amp; Support your local country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ser : T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Placeholder 2"/>
          <p:cNvSpPr/>
          <p:nvPr/>
        </p:nvSpPr>
        <p:spPr>
          <a:xfrm>
            <a:off x="4356000" y="1285920"/>
            <a:ext cx="382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b084"/>
                </a:solidFill>
                <a:latin typeface="Gill Sans MT"/>
              </a:rPr>
              <a:t>Possible Kids Saturday Evening Mov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ausage sizzle &amp; other food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ntertainment &amp; dinner in one packag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ser :T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Placeholder 2"/>
          <p:cNvSpPr/>
          <p:nvPr/>
        </p:nvSpPr>
        <p:spPr>
          <a:xfrm>
            <a:off x="4356000" y="3535200"/>
            <a:ext cx="3826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b084"/>
                </a:solidFill>
                <a:latin typeface="Gill Sans MT"/>
              </a:rPr>
              <a:t>Coffee &amp; Tea During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ed up of waiting in the cold watching coaching session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 Mo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IFC Café will be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r hot drinks and tea time sn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eed the kids before getting ho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ser : Penny H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2"/>
          <p:cNvSpPr/>
          <p:nvPr/>
        </p:nvSpPr>
        <p:spPr>
          <a:xfrm>
            <a:off x="1000080" y="13572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these are our targets and depend significantly on help from players, parents and volunt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Social Events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3827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Gill Sans MT"/>
              </a:rPr>
              <a:t>St Ives FC Annual Bal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un &amp; Fundraiser for the Club !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e club’s Big Bash for the yea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uctions, raffles, music &amp; danc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aturday 3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Ma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Organiser : Jodi Parish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2773440" y="4581360"/>
            <a:ext cx="403884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Picture 9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sp>
        <p:nvSpPr>
          <p:cNvPr id="578" name="Text Placeholder 2"/>
          <p:cNvSpPr/>
          <p:nvPr/>
        </p:nvSpPr>
        <p:spPr>
          <a:xfrm>
            <a:off x="468360" y="3573360"/>
            <a:ext cx="3825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Gill Sans MT"/>
              </a:rPr>
              <a:t>International Sports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otball &amp; Rugby Events on 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uper-large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icket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og and Food to be arr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ome &amp; Support your local country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Organiser : Roger D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Placeholder 2"/>
          <p:cNvSpPr/>
          <p:nvPr/>
        </p:nvSpPr>
        <p:spPr>
          <a:xfrm>
            <a:off x="4356000" y="1128600"/>
            <a:ext cx="382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Gill Sans MT"/>
              </a:rPr>
              <a:t>Kids Friday Evening 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&amp;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Friday of every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ausage sizzle &amp; other food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tertainment &amp; dinner in one package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Organiser :Emma D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Placeholder 2"/>
          <p:cNvSpPr/>
          <p:nvPr/>
        </p:nvSpPr>
        <p:spPr>
          <a:xfrm>
            <a:off x="4356000" y="3535200"/>
            <a:ext cx="3826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Gill Sans MT"/>
              </a:rPr>
              <a:t>Coffee &amp; Tea Dur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ed up of waiting in the cold watching coaching sess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o More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IFC Café will be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r hot drinks and tea time sn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eed the kids before getting home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Organiser : Penny Ho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2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583" name="TextBox 7"/>
          <p:cNvSpPr/>
          <p:nvPr/>
        </p:nvSpPr>
        <p:spPr>
          <a:xfrm rot="20543400">
            <a:off x="561240" y="2394360"/>
            <a:ext cx="7055640" cy="2837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"/>
                <a:ea typeface="Arial"/>
              </a:rPr>
              <a:t>!!! NOTE 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of these activities will only be possible with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unteer assistance from the members (players &amp; par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please put the word around and ask for helpers to come for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692000" y="1268280"/>
            <a:ext cx="5770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perwork 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Seas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ules of the G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des of Condu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aching Philosoph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Clu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ey dates and End of Seas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ful Lin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ining  Alloc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it Pick U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5" name="Picture 6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Useful Links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2400" spc="-1" strike="noStrike">
              <a:solidFill>
                <a:srgbClr val="9cb084"/>
              </a:solidFill>
              <a:latin typeface="Gill Sans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2400" spc="-1" strike="noStrike">
              <a:solidFill>
                <a:srgbClr val="9cb08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ub Web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410082"/>
                </a:solidFill>
                <a:uFillTx/>
                <a:latin typeface="Gill Sans MT"/>
                <a:hlinkClick r:id="rId1"/>
              </a:rPr>
              <a:t>www.stivesfootball.com.au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SFA Websit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ttp://nsfa.asn.au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ncil Web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410082"/>
                </a:solidFill>
                <a:uFillTx/>
                <a:latin typeface="Gill Sans MT"/>
                <a:hlinkClick r:id="rId2"/>
              </a:rPr>
              <a:t>www.kmc.nsw.gov.au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iRoos Web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410082"/>
                </a:solidFill>
                <a:uFillTx/>
                <a:latin typeface="Gill Sans MT"/>
                <a:hlinkClick r:id="rId3"/>
              </a:rPr>
              <a:t>www.minroos.com.au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agers Log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Team official Tab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9676d"/>
                </a:solidFill>
                <a:latin typeface="Gill Sans MT"/>
              </a:rPr>
              <a:t>http://kdsastves.calfordgreen.com/teammanagers/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</p:txBody>
      </p:sp>
      <p:pic>
        <p:nvPicPr>
          <p:cNvPr id="589" name="Picture 9" descr="Football 2.jpg"/>
          <p:cNvPicPr/>
          <p:nvPr/>
        </p:nvPicPr>
        <p:blipFill>
          <a:blip r:embed="rId4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SIFC Logo V12.2 (pantone336).jpg"/>
          <p:cNvPicPr/>
          <p:nvPr/>
        </p:nvPicPr>
        <p:blipFill>
          <a:blip r:embed="rId5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1" descr="Mini ROOS Button V2 copy.jpg"/>
          <p:cNvPicPr/>
          <p:nvPr/>
        </p:nvPicPr>
        <p:blipFill>
          <a:blip r:embed="rId6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Paperwork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219320"/>
            <a:ext cx="7543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rking With Children (WWC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All Managers, Coaches and Assistants must complete WWC Check and provide SIFC with number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Complete on line and get verified by Services NSW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gistering on FFA registration 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ALL managers and coaches MUST be registered on the FFA system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9676d"/>
                </a:solidFill>
                <a:latin typeface="Gill Sans MT"/>
              </a:rPr>
              <a:t>Follow the registration path either  Coaches or Volunteers . There is no charge</a:t>
            </a:r>
            <a:endParaRPr b="0" lang="en-US" sz="2300" spc="-1" strike="noStrike">
              <a:solidFill>
                <a:srgbClr val="69676d"/>
              </a:solidFill>
              <a:latin typeface="Gill Sans MT"/>
            </a:endParaRPr>
          </a:p>
        </p:txBody>
      </p:sp>
      <p:pic>
        <p:nvPicPr>
          <p:cNvPr id="420" name="Picture 6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The Season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Gill Sans MT"/>
              </a:rPr>
              <a:t>Non-Competition (U6-U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2400" spc="-1" strike="noStrike">
              <a:solidFill>
                <a:srgbClr val="9cb08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83680" y="1585800"/>
            <a:ext cx="403884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ixed – Saturday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April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irls – Sunday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April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ixed – Saturday 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August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irls – Sunday 19th August</a:t>
            </a:r>
            <a:endParaRPr b="0" lang="en-US" sz="2000" spc="-1" strike="noStrike">
              <a:solidFill>
                <a:srgbClr val="69676d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o Match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iddle week of school Holiday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/15th Ju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8320" y="161244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601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8" name="Picture 9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0"/>
          <p:cNvSpPr/>
          <p:nvPr/>
        </p:nvSpPr>
        <p:spPr>
          <a:xfrm>
            <a:off x="539640" y="579600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More info can be found in the event calendar of NS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www.nsfa.asn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1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Rules of the Game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Gill Sans MT"/>
              </a:rPr>
              <a:t>U6 &amp; U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Gill Sans MT"/>
              </a:rPr>
              <a:t>On the D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Player Numbers 4v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all Size 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Goalkeeper N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Playing Time 2x20m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Half Time Break 5m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Throw‐in/Kick‐in Kick‐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ponent &gt; 5m awa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Offside N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rners N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enalties N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Field Size 30x20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Squad is of size 8 to 11 play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ach/Manager creates two teams of 4 players plus sub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9676d"/>
                </a:solidFill>
                <a:latin typeface="Gill Sans MT"/>
              </a:rPr>
              <a:t>Broadly on strength basis (A &amp; B teams)</a:t>
            </a:r>
            <a:endParaRPr b="0" lang="en-US" sz="1700" spc="-1" strike="noStrike">
              <a:solidFill>
                <a:srgbClr val="69676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team play their mat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ager notes scores and creates and aggregate sco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9676d"/>
                </a:solidFill>
                <a:latin typeface="Gill Sans MT"/>
              </a:rPr>
              <a:t>Then enters this on the system.</a:t>
            </a:r>
            <a:endParaRPr b="0" lang="en-US" sz="1700" spc="-1" strike="noStrike">
              <a:solidFill>
                <a:srgbClr val="69676d"/>
              </a:solidFill>
              <a:latin typeface="Gill Sans MT"/>
            </a:endParaRPr>
          </a:p>
        </p:txBody>
      </p:sp>
      <p:pic>
        <p:nvPicPr>
          <p:cNvPr id="437" name="Picture 9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27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Rules of the Game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Gill Sans MT"/>
              </a:rPr>
              <a:t>U8 &amp; U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Gill Sans MT"/>
              </a:rPr>
              <a:t>U10 – U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Player Numbers 7v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Ball Size 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Goalkeeper Y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Playing Time 2x20m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Half Time Break 5m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Throw‐in/Kick‐in Throw 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Offside N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rners Y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enalties Y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ponent &gt; 5m awa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Field Size 40x30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Player Numbers 9v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Ball Size 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Goalkeeper Y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Playing Time 2x25m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Half Time Break 5m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Throw‐in/Kick‐inThrow‐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Offside N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rners Y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enalties Y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ponent &gt; 5m awa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Field Size 60x40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" name="Picture 10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1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2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pic>
        <p:nvPicPr>
          <p:cNvPr id="449" name="Content Placeholder 7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229600" cy="5003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9" descr="Football 2.jpg"/>
          <p:cNvPicPr/>
          <p:nvPr/>
        </p:nvPicPr>
        <p:blipFill>
          <a:blip r:embed="rId2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SIFC Logo V12.2 (pantone336).jpg"/>
          <p:cNvPicPr/>
          <p:nvPr/>
        </p:nvPicPr>
        <p:blipFill>
          <a:blip r:embed="rId3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Mini ROOS Button V2 copy.jpg"/>
          <p:cNvPicPr/>
          <p:nvPr/>
        </p:nvPicPr>
        <p:blipFill>
          <a:blip r:embed="rId4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98080" y="36360"/>
            <a:ext cx="742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Bookman Old Style"/>
              </a:rPr>
              <a:t>Code of Conduct</a:t>
            </a:r>
            <a:endParaRPr b="0" lang="en-US" sz="3200" spc="-1" strike="noStrike">
              <a:solidFill>
                <a:srgbClr val="69676d"/>
              </a:solidFill>
              <a:latin typeface="Bookman Old Styl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723680"/>
            <a:ext cx="822960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Gill Sans MT"/>
              </a:rPr>
              <a:t>Coach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Aside from injury, each junior player should be on the field for at least half the game time. All players deserve equal playing and training time, regardless of their ability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Be reasonable in your demands on players' time, energy and enthusiasm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Any physical contact with a young player should be appropriate to the situation and necessary for their development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Ensure that the time players spend with you is a positive experience. All young players are deserving of equal attention and opportunities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Ensure that equipment and facilities meet safety standards and are appropriate to the age, maturity and ability of all players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cb084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69676d"/>
                </a:solidFill>
                <a:latin typeface="Gill Sans MT"/>
              </a:rPr>
              <a:t>Show concern and caution toward sick and injured players. Follow the advice of a physician when determining whether an injured player is ready to recommence training or competition.</a:t>
            </a:r>
            <a:endParaRPr b="0" lang="en-US" sz="1600" spc="-1" strike="noStrike">
              <a:solidFill>
                <a:srgbClr val="69676d"/>
              </a:solidFill>
              <a:latin typeface="Gill Sans MT"/>
            </a:endParaRPr>
          </a:p>
        </p:txBody>
      </p:sp>
      <p:pic>
        <p:nvPicPr>
          <p:cNvPr id="455" name="Picture 7" descr="Football 2.jpg"/>
          <p:cNvPicPr/>
          <p:nvPr/>
        </p:nvPicPr>
        <p:blipFill>
          <a:blip r:embed="rId1"/>
          <a:stretch/>
        </p:blipFill>
        <p:spPr>
          <a:xfrm>
            <a:off x="7740720" y="333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SIFC Logo V12.2 (pantone336).jpg"/>
          <p:cNvPicPr/>
          <p:nvPr/>
        </p:nvPicPr>
        <p:blipFill>
          <a:blip r:embed="rId2"/>
          <a:stretch/>
        </p:blipFill>
        <p:spPr>
          <a:xfrm>
            <a:off x="71280" y="36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Mini ROOS Button V2 copy.jpg"/>
          <p:cNvPicPr/>
          <p:nvPr/>
        </p:nvPicPr>
        <p:blipFill>
          <a:blip r:embed="rId3"/>
          <a:stretch/>
        </p:blipFill>
        <p:spPr>
          <a:xfrm>
            <a:off x="8072280" y="528624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2:02:49Z</dcterms:created>
  <dc:creator>ROGER DUTTON</dc:creator>
  <dc:description/>
  <dc:language>en-US</dc:language>
  <cp:lastModifiedBy>Lyle Hudson</cp:lastModifiedBy>
  <dcterms:modified xsi:type="dcterms:W3CDTF">2018-03-20T22:36:33Z</dcterms:modified>
  <cp:revision>85</cp:revision>
  <dc:subject/>
  <dc:title>Slide 1</dc:title>
</cp:coreProperties>
</file>